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1E7-5ACF-4054-92DC-696B0C2D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57E-DA45-4555-B666-13CF5FFE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8A2-45CB-4569-B418-E7806058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E55E-4CE6-427D-AFED-99D61A6A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ECB-4187-4EF8-8D4B-F644B0D6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A922-3A76-4E32-8548-22234D4E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E24-F314-4526-9F73-322C0E82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A490-E181-48F1-8BC5-A062BA8A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ECD2-F2F8-497F-9B24-DB24A772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79DA-D0D1-4855-8C50-D466D53B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041-2601-4214-92F4-C3F6B049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6E3-52FE-4ADA-B5D1-83322E88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CB0F-CDD2-42B3-BF73-7355EE1D8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5340044ekIzaANufR_ph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495680" cy="78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إن شئتَ حياتي فبينَ يدي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إن شئتَ أشواقي فهيَ إلي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إني لستُ أطلبُ شيئا من لدي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غيرَ حبِّك الأمينِ والسعيِ إلي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ذه هي طَلبتي، هذي مني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استجبني يا إله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pmass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80880"/>
            <a:ext cx="4572000" cy="88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شفني وقُتني بخبزِ السماء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ما اعتراني جوعٌ أو ظمأ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جعل في فؤادي حبَّ الانتماء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لتأني في سبيل حفظ ود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إذا أخطأتُ هبني الندما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لعزاءَ يا إل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5215561trgpRaNsdy_ph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43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572000"/>
            <a:ext cx="8839080" cy="38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إذا ما ضعفتُ أنتَ قوتي إذا ما حزنتُ أنتَ سلو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إنك القديرُ شدِّد همَّتي لبناءِ الملكوت ما بينَ الأن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في وَسطِ الصعابِ أُذكر عَهْدَكَ </a:t>
            </a:r>
            <a:r>
              <a:rPr b="1" lang="ar-SA" sz="36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وانتشلني يا إله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6:47:03Z</dcterms:created>
  <dc:creator>SUZANNE.MD</dc:creator>
  <dc:description/>
  <dc:language>en-US</dc:language>
  <cp:lastModifiedBy>USER</cp:lastModifiedBy>
  <dcterms:modified xsi:type="dcterms:W3CDTF">2002-12-12T16:00:54Z</dcterms:modified>
  <cp:revision>1</cp:revision>
  <dc:subject/>
  <dc:title>PowerPoint Presentation</dc:title>
</cp:coreProperties>
</file>